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7034-DE4A-4DEB-A826-CC62094C6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BF72-DE26-4DB3-9D44-FE950257F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068D-D55D-4F76-A171-89F9DE6B2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0407-283A-4C5E-831F-69F241BAB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18190-E39A-4FD3-A0CB-2D30B5E89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8E050-B14D-49F3-9417-563DCC385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08EFC-93C0-4691-BFF7-483D103D5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BC71B-D47B-4A94-8DB7-75512FB85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7DADE-5B01-44FA-B711-99C863040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B841F-2B7E-400E-94A1-F023FEE4D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1EA78-5EC8-4836-8737-96491AFE3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9878-370A-4A85-8BC2-003E68439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A99E0-FB3D-4DA9-9130-7B50DA8EA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36881-A7D8-4AA1-92F1-C85727475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223AC-370D-4F60-81B7-D0CF728FB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6CC3D-434B-4CCA-9D4C-F8F781B7E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720A9-6714-404E-8CE8-AD7A0CF09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1B05-883B-4DD4-BEEC-F204E9BAE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DFCD-9FAB-4C67-8627-2C63EBB3E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A047-DE26-4BEA-B70C-66DE4E8EA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7F1A-2C68-478F-9448-39D6CB850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E3C9-9EFC-4DD2-9341-550A02571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AF2F-EC27-4ACB-BEDB-142FFBCB2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C155-2DA5-4B9E-B4FD-6418F1825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9B35E-AA45-4001-8716-730C16DBFDF2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1671A-9859-4AAA-93C8-FD75A6DEC511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hyperlink" Target="http://gymnasticscoaching.com/new/wp-content/uploads/2009/08/Nastia.jpg" TargetMode="External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95280" y="692280"/>
            <a:ext cx="835344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Performance Appreci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GYMNAS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22</a:t>
            </a:r>
            <a:r>
              <a:rPr b="1" lang="en-US" sz="2800" spc="-1" strike="noStrike" baseline="30000">
                <a:solidFill>
                  <a:srgbClr val="ff0000"/>
                </a:solidFill>
                <a:latin typeface="Comic Sans MS"/>
              </a:rPr>
              <a:t>nd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 February 201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24000" y="3860640"/>
            <a:ext cx="4095720" cy="27622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788000" y="3879720"/>
            <a:ext cx="4103640" cy="27180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6084720" y="1268280"/>
            <a:ext cx="2832120" cy="20433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See full size image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79280" y="1268280"/>
            <a:ext cx="2735280" cy="20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Answer the following question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What ever you do not get finished today must get completed for homework and handed in next </a:t>
            </a:r>
            <a:r>
              <a:rPr b="0" lang="en-GB" sz="3200" spc="-1" strike="noStrike">
                <a:solidFill>
                  <a:srgbClr val="ff0000"/>
                </a:solidFill>
                <a:latin typeface="Tahoma"/>
              </a:rPr>
              <a:t>TUESDAY 2</a:t>
            </a:r>
            <a:r>
              <a:rPr b="0" lang="en-GB" sz="3200" spc="-1" strike="noStrike" baseline="30000">
                <a:solidFill>
                  <a:srgbClr val="ff0000"/>
                </a:solidFill>
                <a:latin typeface="Tahoma"/>
              </a:rPr>
              <a:t>nd</a:t>
            </a:r>
            <a:r>
              <a:rPr b="0" lang="en-GB" sz="3200" spc="-1" strike="noStrike">
                <a:solidFill>
                  <a:srgbClr val="ff0000"/>
                </a:solidFill>
                <a:latin typeface="Tahoma"/>
              </a:rPr>
              <a:t> March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The questions will be put on the </a:t>
            </a:r>
            <a:r>
              <a:rPr b="0" lang="en-GB" sz="3200" spc="-1" strike="noStrike">
                <a:solidFill>
                  <a:srgbClr val="ffff00"/>
                </a:solidFill>
                <a:latin typeface="Tahoma"/>
              </a:rPr>
              <a:t>WIK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Use your skills and techniques course booklet to help you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eaeaea"/>
                </a:solidFill>
                <a:latin typeface="Tahoma"/>
              </a:rPr>
              <a:t>Revision Questions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320" y="1125360"/>
            <a:ext cx="754380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1  Select a skill/technique from below and describe it in terms of the following: Preparation, Action, Recovery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Forehand Overhead Clear, Forehand Smash, Forehand Overhead Dropshot, High serve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(6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2 Describe what you did to compare your performance with a model performer? (Include PAR)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3 Select 2 methods of practice and describe how they were used to develop that skill/technique.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(4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4 Motivation, concentration and feedback are important factors that effect your performance in any activity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Select one o these factors and explain how it affected your performance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0T15:00:34Z</dcterms:created>
  <dc:creator>hamiltonp</dc:creator>
  <dc:description/>
  <dc:language>en-US</dc:language>
  <cp:lastModifiedBy>DooganS</cp:lastModifiedBy>
  <dcterms:modified xsi:type="dcterms:W3CDTF">2010-02-22T14:21:54Z</dcterms:modified>
  <cp:revision>64</cp:revision>
  <dc:subject/>
  <dc:title>Slide 1</dc:title>
</cp:coreProperties>
</file>